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9579-289F-48B9-A499-F71B29D5A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5563-2AC9-4D07-B811-60AE59B7F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3952-25B1-4CFF-A70B-C0490B926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76FF4-F217-4E74-9A1E-AF32EF844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A8E75-8A46-4C13-B6FC-C10628D0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D7BDD-7833-4B6D-94E3-E1F8B3807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24715-C472-4B30-881F-E6CE2F923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3193-A38D-48EB-B79A-588982A96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934B-158C-40BC-8E62-CE671655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C10F-B83C-418E-9681-4B72B2B2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7A6F-B4EB-458A-B14D-209B7E3A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C7356-D7B7-4349-959E-0596261D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6F629-C0F0-4ABE-A784-9DC1D379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DC94-A713-4702-AAEA-1517604C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91C85-0A8E-404F-9EC5-762CF956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FA35-9508-4597-859B-CA737DF0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C5CB-9173-4DF9-BD6F-FEDBA90F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C36E-2E15-4475-A32F-38DA1F7C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E2E9-5423-4921-8535-4257D6DFF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EB27C-016E-4E2D-AB96-14057BD57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DA4FF-8862-4B11-A496-BA2D4313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464FA-4AD4-47B3-87B6-AE7FA32D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61E5F-299F-4247-82B1-069630E3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237CC-1E19-42E6-8E37-6CFBCB9D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4A7D6-9D15-45B3-BC03-EABDF2DE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3E551-9B2E-4F54-BEF0-9A8E3130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A392F-9D49-46AB-935E-9FEE0C57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8883-A4E7-4C60-86A6-26818DFBB1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663C4-1915-4912-8926-F265934E376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7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Text Box 21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7D50-E3C1-4B83-98DD-4949F299144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154F-8304-44F5-A33E-EFC7D6E487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6038-BA6C-4781-A7FC-00860A7653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99"/>
                </a:solidFill>
                <a:latin typeface="Verdana"/>
              </a:rPr>
              <a:t>Checklist d’orient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our du labora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troduction à la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vue technique du labora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ignes de conduite clefs du pers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ystème de gestion de la qualité au labora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criptif de po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M 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ate de début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OSITION 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SPONSABLE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68C5-3134-432A-B616-0162EBFE49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762120" y="1066680"/>
            <a:ext cx="8001000" cy="448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99"/>
                </a:solidFill>
                <a:latin typeface="Verdana"/>
              </a:rPr>
              <a:t>L’évaluation des performances peut plus mettre en lumière les opportunités d’amélioration pour le laboratoire que pour l’employ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MCj04260720000[1]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19CF-5606-401C-B912-A5F1B7C11F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Qualifications et descriptif de po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533520" y="1219320"/>
            <a:ext cx="8305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« La direction du laboratoire devrait avoir des descriptifs de  poste qui définissent les qualifications et les fonctions de tout le personnel. »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SO15189: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762120" y="2819520"/>
            <a:ext cx="40384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éducation requ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ertificats requ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diplômes requ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ré requises avant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ré requises avant expé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ompétences requ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spécifie la hiérarch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spécifie les responsabilit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rô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fo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responsabil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structures de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762120" y="2438280"/>
            <a:ext cx="40384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Descriptif de po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0181-3AA9-4B0B-9F34-F24C94B012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Verdana"/>
              </a:rPr>
              <a:t>Évaluation des compétences Check-list </a:t>
            </a:r>
            <a:r>
              <a:rPr b="0" lang="fr-FR" sz="2000" spc="-1" strike="noStrike">
                <a:solidFill>
                  <a:srgbClr val="000099"/>
                </a:solidFill>
                <a:latin typeface="Verdana"/>
              </a:rPr>
              <a:t>(ha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981080"/>
          <a:ext cx="8229600" cy="4543560"/>
        </p:xfrm>
        <a:graphic>
          <a:graphicData uri="http://schemas.openxmlformats.org/drawingml/2006/table">
            <a:tbl>
              <a:tblPr/>
              <a:tblGrid>
                <a:gridCol w="2743200"/>
                <a:gridCol w="1066680"/>
                <a:gridCol w="304920"/>
                <a:gridCol w="533520"/>
                <a:gridCol w="609480"/>
                <a:gridCol w="2971800"/>
              </a:tblGrid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 technici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édure d’é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 d’é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valu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ément de procéd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lu le manuel de procéd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ature du 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quipement dispon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 de travail pro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éparation réacti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 la tâche correct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 la tâche opportuné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7BC2-F12E-4237-A4EB-C975F76896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Verdana"/>
              </a:rPr>
              <a:t>Évaluation des compétences Check-list</a:t>
            </a:r>
            <a:r>
              <a:rPr b="0" lang="fr-FR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99"/>
                </a:solidFill>
                <a:latin typeface="Arial"/>
              </a:rPr>
              <a:t>(b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752480"/>
          <a:ext cx="8229600" cy="445464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182520"/>
                <a:gridCol w="731880"/>
                <a:gridCol w="182520"/>
                <a:gridCol w="655560"/>
                <a:gridCol w="28195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sumé d’évalu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808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 formation requise pour combler les défaillances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2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és recommandées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ation dans _____ jou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2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aires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9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ature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ien évalu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B601-5F94-4595-BEB5-21A4FE276B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Évaluation des compét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228600" y="1676520"/>
            <a:ext cx="8610480" cy="464796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04920" y="1143000"/>
          <a:ext cx="8610480" cy="510840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447560"/>
                <a:gridCol w="1295640"/>
                <a:gridCol w="1218960"/>
                <a:gridCol w="2590920"/>
              </a:tblGrid>
              <a:tr h="8352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re d’évaluation des compéten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ôpital principal – Laboratoire de Microbiolog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âc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valu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valu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ai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ation G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ation dans 1 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des disques trop proches. Ré évaluation dans 14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ation dans 1 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émocult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ifug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ation dans 1 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plissage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ée donn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rreurs.  Lire le manuel et ré évaluer dans 10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E8E2-F26F-4E68-B8BA-5125178D94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80880" y="1523880"/>
            <a:ext cx="3962520" cy="54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ée au trav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pécifique à une tâ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ée à l’évaluation des compé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xemples: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visions des manuels opérato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vision des mises à jour du manu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formation sur l’équipemen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457200" y="685800"/>
            <a:ext cx="4038480" cy="5205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Verdana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4572000" y="1752480"/>
            <a:ext cx="4267080" cy="48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ée au trav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eut ne pa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être spécifique à une tâ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eut ne pa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être liée à l’évaluation des  compé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xe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fé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lubs de rev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vues et litté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Formation conti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7" descr="MCBD06810_0000[1]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8" descr="MCBS00263_0000[1]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44" name="WordArt 20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81C5-315D-431B-97A6-852FD7293A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F118-34EC-476C-B2B7-C5D862F8A9EC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99"/>
                </a:solidFill>
                <a:latin typeface="Verdana"/>
              </a:rPr>
              <a:t>Ressources de form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ersonnel inte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mité d’assurance qu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édec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nfirmier(èr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athologi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trôle des inf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pidémiologi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xte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valuateu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Fabrica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ociétés scientifiq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rganisations de normalis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MPj04010010000[1]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0AD8-824F-4E53-8250-9D4C06FE36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uses d’une performance médioc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533520" y="1752480"/>
            <a:ext cx="37335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Personnelles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blème de san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uvaise compréhe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nque de/mauvaise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mun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5033-E2D4-4E9A-B053-99659EC765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ématiques/géné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istractions sur lieu de trav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urcharge de trav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rientation médioc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rmation insuffis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s d’évaluation des compé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plexités des échantill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OS absentes ou pas val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OS ambiguë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Causes d’une performance médioc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4:47:58Z</dcterms:modified>
  <cp:revision>202</cp:revision>
  <dc:subject/>
  <dc:title>Slide 1</dc:title>
</cp:coreProperties>
</file>